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ABC0-5657-40D5-902D-D0D9FBC40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50BF-1D7F-41FA-ACB2-81D677CC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1D2E-35BB-41BB-9A47-D13B8FD73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3B2D-7974-4343-96CF-C3509495E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BD1C-2E50-4F9C-B6CF-A3DCA712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EAC6-8D37-4451-9F95-77F10648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95EC-4ED8-40B8-ADD0-6CB26210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8924-592D-4795-83CC-8341EF78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049D-3288-458C-8CEA-F52D34B9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0873-340B-409A-A773-8DC39CF0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102E-73F6-494C-B67F-164B9B23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72A3-634E-4352-A659-7C29BC78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16B3-679C-45E2-AFDE-2D226793E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762120" y="609480"/>
            <a:ext cx="7848360" cy="54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lcohols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-O-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lassific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omencla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mon nam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kyl alcoh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UPA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parent = longest continuous carbon cha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ing the –OH gro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kane    drop   -e, add –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ix locant for –OH  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ower number for O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609480" y="838080"/>
            <a:ext cx="792504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action of alcohols with H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  (#1 synthesis of R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-OH    +    HX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R-X    +   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)  HX:     HI &gt; HBr &gt; H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)  ROH:   3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&gt;  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&gt;  C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&gt;  1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)  May be acid cataly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)  Rearrangements are possible except with most 1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alcoho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685800" y="685800"/>
            <a:ext cx="8001000" cy="56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OH    +    NaBr,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heat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utyl alcoho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utyl brom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-butano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1-bromobut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-OH    +    HCl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-Cl        (room temperatu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e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utyl alcoho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e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utyl chlor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-methyl-2-propano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-chloro-2-methylprop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OH    +    HI, 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heat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hyl alcoho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ethyl iod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hano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iodoeth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533520" y="685800"/>
            <a:ext cx="8153280" cy="49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s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CH</a:t>
            </a:r>
            <a:r>
              <a:rPr b="0" lang="en-US" sz="2400" spc="-1" strike="noStrike" u="sng" baseline="-25000">
                <a:solidFill>
                  <a:srgbClr val="ff0000"/>
                </a:solidFill>
                <a:uFillTx/>
                <a:latin typeface="Times New Roman"/>
              </a:rPr>
              <a:t>3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-OH and most 1</a:t>
            </a:r>
            <a:r>
              <a:rPr b="0" lang="en-US" sz="2400" spc="-1" strike="noStrike" u="sng" baseline="30000">
                <a:solidFill>
                  <a:srgbClr val="ff0000"/>
                </a:solidFill>
                <a:uFillTx/>
                <a:latin typeface="Times New Roman"/>
              </a:rPr>
              <a:t>o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alcohol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react with HX vi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3</a:t>
            </a:r>
            <a:r>
              <a:rPr b="0" lang="en-US" sz="2400" spc="-1" strike="noStrike" u="sng" baseline="30000">
                <a:solidFill>
                  <a:srgbClr val="ff0000"/>
                </a:solidFill>
                <a:uFillTx/>
                <a:latin typeface="Times New Roman"/>
              </a:rPr>
              <a:t>o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and 2</a:t>
            </a:r>
            <a:r>
              <a:rPr b="0" lang="en-US" sz="2400" spc="-1" strike="noStrike" u="sng" baseline="30000">
                <a:solidFill>
                  <a:srgbClr val="ff0000"/>
                </a:solidFill>
                <a:uFillTx/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react with HX vi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mechanisms include an additional, first step, protonation of the alcohol oxy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-OH    +   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R-O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“oxonium 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447920" y="1752480"/>
            <a:ext cx="6476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henever an oxygen containing compound is placed into an acidic solution, the oxygen will be protonated, forming an oxonium 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1066680" y="1447920"/>
            <a:ext cx="6858000" cy="259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457200" y="609480"/>
            <a:ext cx="84582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sm for reaction of an alcohol with H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H or 1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alcoho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Object 8"/>
          <p:cNvGraphicFramePr/>
          <p:nvPr/>
        </p:nvGraphicFramePr>
        <p:xfrm>
          <a:off x="838080" y="2286000"/>
          <a:ext cx="7209000" cy="313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86000"/>
                    <a:ext cx="7209000" cy="31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609480" y="762120"/>
            <a:ext cx="815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sm for reaction of an alcohol with H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or 3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alcoho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Object 6"/>
          <p:cNvGraphicFramePr/>
          <p:nvPr/>
        </p:nvGraphicFramePr>
        <p:xfrm>
          <a:off x="609480" y="2209680"/>
          <a:ext cx="7543800" cy="383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09680"/>
                    <a:ext cx="7543800" cy="38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762120" y="990720"/>
            <a:ext cx="792468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May be catalyzed by ac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 rate =  k [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O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] [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rate =  k [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O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cid protonates the -OH, converting it into a better leaving group (H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), increasing the concentration of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xoniu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ion, and increasing the rate of the rea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609480" y="1066680"/>
            <a:ext cx="815364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rrangements are possible (except with most 1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alcohol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CH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+   HBr        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H                                                        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[1,2-H]       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CH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CH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arboc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arb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380880" y="685800"/>
          <a:ext cx="8382240" cy="47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85800"/>
                    <a:ext cx="8382240" cy="47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533520" y="609480"/>
            <a:ext cx="7848360" cy="60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  If large steric requiremen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OH        +        HBr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opentyl alcoh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2-bromo-2-methylbut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O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rbocation       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rb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1,2-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609480" y="762120"/>
            <a:ext cx="8153640" cy="56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   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H                                         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methyl-2-pentan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butyl 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methyl-2-propan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-CH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butyl alcoh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propyl 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butano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propan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533520" y="609480"/>
            <a:ext cx="8305560" cy="55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ith P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H    +    P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R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=  PCl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PB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P + I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 rearrang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0000"/>
              </a:buClr>
              <a:buFont typeface="Times New Roman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OH:  C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1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0000"/>
              </a:buClr>
              <a:buFont typeface="Times New Roman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OH        +       PB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opentyl alcoho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2,2-dimethyl-1-bromoprop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3811680" y="2743200"/>
            <a:ext cx="5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914400" y="990720"/>
            <a:ext cx="7543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3333cc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ehyd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685800" y="685800"/>
            <a:ext cx="815328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3333cc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s aci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3333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ith active met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H    +    Na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RONa    +    ½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3333cc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ith bas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H    +    NaOH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&lt;  N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&lt;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O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&lt;  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   &lt;  H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609480" y="1143000"/>
            <a:ext cx="79250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H    +    NaOH     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    +    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W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WB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S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H    +    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gBr    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+    MgBr(O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SB   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W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W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H    +    NaN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N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+       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SB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W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W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685800" y="762120"/>
            <a:ext cx="8153280" cy="48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3333cc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ster 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OH    +    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,   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+   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OH    +    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Cl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+     H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OH    +    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+    H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sters are alkyl “salts” of aci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685800" y="457200"/>
          <a:ext cx="7029360" cy="552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"/>
                    <a:ext cx="702936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1024"/>
          <p:cNvGraphicFramePr/>
          <p:nvPr/>
        </p:nvGraphicFramePr>
        <p:xfrm>
          <a:off x="457200" y="1447920"/>
          <a:ext cx="7981920" cy="35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7981920" cy="35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1026"/>
          <p:cNvGraphicFramePr/>
          <p:nvPr/>
        </p:nvGraphicFramePr>
        <p:xfrm>
          <a:off x="457200" y="1447920"/>
          <a:ext cx="7905600" cy="37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7905600" cy="37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762120" y="1828800"/>
          <a:ext cx="773424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828800"/>
                    <a:ext cx="773424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762120" y="990720"/>
            <a:ext cx="7696080" cy="32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xidation states of carb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xid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H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         H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          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4              -2                    0                     +2                 +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ductio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609480" y="685800"/>
            <a:ext cx="8153640" cy="55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hysical properties of alcoho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ar  +  hydrogen bo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ly higher mp/b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ater insolub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except for alcohols of three carbons or l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hydrophobic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   hydrophi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457200" y="533520"/>
            <a:ext cx="8229600" cy="60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3333cc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xi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idizing agents:  KM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r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aOCl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mary alcoho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OH   +   KM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tc.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rboxyl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ary alcoho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H                                                          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+  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tc.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eriary alcoho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 reac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7"/>
          <p:cNvSpPr/>
          <p:nvPr/>
        </p:nvSpPr>
        <p:spPr>
          <a:xfrm>
            <a:off x="716292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8"/>
          <p:cNvSpPr/>
          <p:nvPr/>
        </p:nvSpPr>
        <p:spPr>
          <a:xfrm>
            <a:off x="7238880" y="4038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685800" y="1828800"/>
            <a:ext cx="7924680" cy="33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imar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alcohols can also be oxidized to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ldehyde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OH    +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HCr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yridinium chlorochromate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dehy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OH    +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pecial condi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685800" y="762120"/>
            <a:ext cx="8153280" cy="55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lcohols, synthe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4.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ydrolysis of alkyl halide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or 1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295280" y="762120"/>
            <a:ext cx="4953240" cy="49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lcohols, reaction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-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|-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ith H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ith P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late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O-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|-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s ac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ster 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xi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143000" y="838080"/>
            <a:ext cx="8001000" cy="55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dest known organic synthe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menta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ar    +    yeast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ethyl alcohol    +   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e juice =&gt;  “win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ley =&gt;  “bee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ney =&gt;  “mea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ce =&gt;  “sak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5-11% ethan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533520" y="685800"/>
            <a:ext cx="822960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illation of fermented beverages to produce “distilled spirits” with a greater percentage of ethyl alcohol (bp 78.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yl alcohol forms a binary azeotrope with wa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5% ethanol + 5% water  (bp 78.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luted with water =&gt; “vodka”   40% ethyl alcohol in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of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when aqueous alcohol is placed on a sample of gunpowder and ignited, the gunpowder will burn at a minimum concentration of 50% alcohol.  This is called “100-proof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roof = 2 * alcohol perc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762120" y="762120"/>
            <a:ext cx="7924680" cy="51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oil of juniper =&gt;  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peat smoke =&gt;  sco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in a burned barrel =&gt;  whis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peppermint =&gt; schnap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yl alcohol is a poison.  L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~10g/Kg orally in m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usea, vomiting, flushing, mental excitement or depression, drowsiness, impaired perception, loss of coordination, stupor, coma, death may occur.   (intox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1295280" y="838080"/>
            <a:ext cx="8153640" cy="55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lcohols, synthe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4.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ydrolysis of alkyl halide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or 1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581280" y="1397160"/>
          <a:ext cx="4038840" cy="415908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3333cc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o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3333cc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3200" spc="-1" strike="noStrike" baseline="30000">
                          <a:solidFill>
                            <a:srgbClr val="3333cc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3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/2</a:t>
                      </a:r>
                      <a:r>
                        <a:rPr b="0" lang="en-US" sz="3200" spc="-1" strike="noStrike" baseline="30000">
                          <a:solidFill>
                            <a:srgbClr val="3333cc"/>
                          </a:solidFill>
                          <a:latin typeface="Times New Roman"/>
                        </a:rPr>
                        <a:t>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 Box 33"/>
          <p:cNvSpPr/>
          <p:nvPr/>
        </p:nvSpPr>
        <p:spPr>
          <a:xfrm>
            <a:off x="3657600" y="7621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-H         R-X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-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4"/>
          <p:cNvSpPr/>
          <p:nvPr/>
        </p:nvSpPr>
        <p:spPr>
          <a:xfrm>
            <a:off x="1752480" y="1523880"/>
            <a:ext cx="1905120" cy="38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 met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xi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l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752480" y="838080"/>
            <a:ext cx="4953240" cy="49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lcohols, reaction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-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|-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ith H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ith P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late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O-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|-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s ac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ster 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xi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3T15:50:46Z</dcterms:created>
  <dc:creator>Eval</dc:creator>
  <dc:description/>
  <dc:language>en-US</dc:language>
  <cp:lastModifiedBy>Windows User</cp:lastModifiedBy>
  <dcterms:modified xsi:type="dcterms:W3CDTF">2010-12-13T17:22:12Z</dcterms:modified>
  <cp:revision>13</cp:revision>
  <dc:subject/>
  <dc:title>PowerPoint Presentation</dc:title>
</cp:coreProperties>
</file>